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FE9-2161-4A60-AF4E-8C9CB06F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0F5-7148-4FE4-95BA-6E490CBA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30DF9-CA29-484C-B695-0E2D414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CB81-C4DA-4C86-860A-3517D32A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EB0E1-B6B3-41F5-B240-E30C63AE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8EBDB-9A1B-44BB-97C9-94BBB2CB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EE2D9-B098-4BBE-B22A-E348194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7B97C-C122-4271-9AAC-CEF0174C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3D48C-6413-4C6A-BFD1-0416B6BC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198BB-0A30-462E-9CE7-DDA631A8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9B51A-621B-4B8F-B3E0-84F03CC8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32A92-0ED5-492D-B70F-91560963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FF9-4129-482A-B9C2-496E424A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5E7D4-AFFB-4517-8B67-CE455755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66BC9-644B-49FD-B390-E7F61CFD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6502F-AE19-4658-8F5C-43A1EDB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F33C1-6533-4F36-A87E-B8B882E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EE60A-2F8F-46FF-9B45-BE505DA6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4D31C-31A5-4B05-8B16-FB7DF9E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086D-D6D8-4867-8D76-F3D9110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2A118-3A3C-43C0-9606-C14B77E4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09AD5-61E4-4616-B503-53848278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FC8D-C331-44CD-A704-9DC7022B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A2E-D290-4961-978B-54100BF4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B5254-AB24-4A03-B9D0-7467FC7B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11F76-85F9-4E00-B3EC-68782378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8813D-E7E5-42BB-A520-0DC24E7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19EB-1739-4F8B-B624-01A32C0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E495-6DDF-4CCD-B9F1-3DDFADB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E4E82-4077-4128-AC2B-C1ABC45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1544-70B0-42A2-9886-03277DED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7570-11B5-4E2F-B918-ABB8B35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0B72-FCC1-4BA3-AFA8-3FA0866F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191C1-07DE-4E06-A8A3-16D00F57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5A4-6339-4C5F-9AEB-126D2422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F3208-C752-4611-83A7-6998C3C5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FDA4D-A540-4E97-ADC5-29CAECBC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241BB-7DD3-467E-BBAE-D065148F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EE164C-F2AC-4A55-BAF7-5772E60F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B63E1-5B85-43F5-B797-96FFC919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9F0FE-88DA-4B96-BCE1-6B34B57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E1C8-F063-40F7-BFFC-D5F0B090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EB692-7545-45F9-BF3D-B91D5E2F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32727-0223-4C21-BBA7-30C9FA32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A343F-BA89-4C36-AF83-7FD2205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289D-29DB-4D00-8C06-F2466BD9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23FE5-0EA7-4D40-9E4D-3953A94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27FB3-2D4A-451A-B1B9-B22EFB1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DAE43-734C-43A9-B674-EDDD60B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F08CE-FD6D-4E33-B159-1F2C7AF8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3D643-97C9-492C-8539-4C643BBC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DDA60-C856-46E6-B723-AC4840DB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801F5-7B3B-4018-90E8-1C5F881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2294A-4B33-4241-832C-1EF00F65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54E1D-EAD7-4272-8DB8-407DC833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D2527-5495-4DE9-94D3-8026387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C7A5-107C-4D5B-88B3-463B6AFF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053C0-28FC-4E5C-B64A-9380B8C0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2668A-1096-48E6-A51D-C46690D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11E27-31C9-44B6-B91B-6908EBED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71BEE-2631-41A6-B46A-57556260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E16F5-5A90-4469-B920-A5DDFECE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50673-BC89-4ADB-8B06-BB3F9EDB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7EF7B-E6E9-49C0-9F23-5DF47BC4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30A2A-50C2-4DEA-BB76-9B686691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5B899-49D7-43E7-A200-75FBC1CE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106B8-C346-40D8-B69C-3F42C49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6310-1F87-4206-B59F-3A7F69F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795F0-EDA1-4389-9B79-63B74F4D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CB422-FD76-46CA-8A17-C00916CC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281DD-B102-4EEE-B755-B4530494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A0927-5340-4AB9-8734-05A942C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0ED42-9BD9-47A6-BA5D-16468480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64957-7FB9-474C-BC98-79CD6BF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9D70E-7BA5-4629-B120-E5BC3DA4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721AE-35E3-4322-A467-C615F9A7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5B810-D7B7-4C8E-8AD5-B849D2C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FC89B-05C8-4586-85BB-4F9AFC76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8AA-7B76-4598-AEFC-3511F05D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58A9E-757F-4342-A6D9-4940900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1FA58-FEBD-4DEB-9069-DFC97E57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3B9BB-9338-4D8F-8C9D-E330903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41777-097C-4751-ABFD-C0C11562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34FB4-6680-4A4F-B57A-9474599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119B38-880F-4DED-82C2-E5E4FC5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0BE78-4213-4836-BBFE-7BD6AE0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2E7CA-9ACA-4DC3-A6BC-6BAF3D8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278E3-EE07-4407-8CE9-0FFAE67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459B3-F502-4AD1-8E6A-86A2C18E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0B2-3853-4398-B80C-579FA500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EAF62-7F2A-4C21-A5CE-6166938E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1DDEF-D737-44B2-9358-BE36508C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9719AA-C6BB-4DD3-AD1A-6EF6075C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EEBDE-F00A-4C6D-B01D-64C3DE5C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4A492-6366-43A8-808E-AA68A6C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D04FE9-30FA-46A0-9C13-F82C5848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610FE-BEAA-4335-949B-48BA4089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15B29-004E-47EB-A42B-9267903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4D4B1-9197-4CF6-A21A-73A6D0E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F7CDE-259D-46F9-BD59-C173B92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8A02-0BE1-4EAD-ADD1-FCAB033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18FEE-5F10-457C-8F21-C73E849E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7083C-C22B-4B6F-8B39-07FECAEB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2F181-445A-4E73-B88A-A917486F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02BB3-3191-4603-B03F-4D42BD7C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D0723-BA73-4E9E-A40B-12A7D6B0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57D86-93FC-49B0-8D9F-AE916A0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B975C4-F5A2-41A1-A22D-762DF887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E98D0-157E-4DA0-820F-F6873BC1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9ADE3-A3B5-472E-8F43-1D4B7D4B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26D11-81AA-4C56-81EC-4F56028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181-C29B-44EA-949B-ADCDBEBD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8F20-BC60-4129-B82A-893DB00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FF124-CBCD-4DB6-8DC9-7DD08E97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E416B-A416-4063-BA1C-4731D9F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5BBB4-12A6-4D86-9169-43A6D80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C2FA4-D08E-40FF-8020-BB069FB0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2116F-570D-431E-A681-BA1F9721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C99AE-53C1-4347-BAAA-B93A8A3F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7CA5E1-191C-4104-A7F5-01C164F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1ABA5-191C-45EA-8AFD-6CD274B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A5DB4-60BD-4EFA-8B4C-87793659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C6D4F5-B943-44A6-8A48-084E0F7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51E6-404E-4594-BD55-714DA1A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86446-B0F3-4284-836B-5235DAD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871CB-5AEB-4AD4-BE01-0A506FEE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9A926-F6C6-4FD1-B21A-B3E8AC9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B8FACC-00D3-4CDE-AB37-99CE3FB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D7C708-D2AD-4442-87CD-F34D3EE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4EA31-98EB-4489-B6FA-025F9765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02642-B653-4B0D-8EE3-AAAA8535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3971C3-6553-47E8-BD1B-0D79762B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CFD08-A5AE-4E53-8F78-4040C294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BD7FB-040B-45A6-9E59-C680365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B1A-D4E3-4943-B3CF-A9D7E17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F7F99-B101-4347-91D8-AB4FB328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1586D-3101-42C0-BC78-57AA83AF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3A727-02E1-4282-B728-DA382D59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800DB5-82D7-41DC-8ED3-4001F94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2A50B-843C-4C28-9339-26B85B7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A8B20B-5929-4243-A7E9-0F9BE12F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49A8D-0ED4-4322-978A-4594DF7F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21A97-42A4-4789-BE8F-F3C673B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32E72-CEB3-448F-A401-5004E6A9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5C927-72E6-40C0-9A35-0702AB93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887C-FA75-43C8-B7F1-12AAECF4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11E8F-6D85-40C0-B316-ABED72B3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F7EB7-99D0-4F84-9F30-A1FEF59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99638-3495-4399-AB13-69A8F0B2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04BB2-2F67-4D15-9EEF-214B9C6F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E5C53-C342-4F77-A5DA-A4A1470D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C4043-162B-4810-8C14-1BBEC95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98D51D-A84C-4E67-A6F6-87981D62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99AE6F-7BEB-4768-866C-B1A7117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4EB78-0076-4377-8F0F-531FE4BA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79953B-A11C-4CE8-9C07-21A7B908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F82-036A-4123-9789-A616BFD5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AE232-8215-47AB-8BC3-5F41D823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CB778-0DBE-4381-BEE5-2FA5B2EE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2A99D-C9BF-44F2-B5FF-AA91724B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34EB0E-812D-4AA6-92D0-F54890E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71597-0E46-44C4-B78D-21DCD3B6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39F6C-E36E-4337-987D-537DD39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B0D24-0F98-4705-BB09-EE369D6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37E3E8-FA85-4126-B378-68CF9883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BAB00-0224-4D2C-80B4-E7DF4A9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A74C4-D4A3-4692-8894-BCF8CA7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EE03-897A-46F6-8D0C-C64B0591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695CA-F987-43C8-8FD1-45017065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CDF1F-5E71-4C97-81EC-E94123B5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68526-FF2A-4334-AF82-1D7B211D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CBFA-396D-4818-9183-A0F4F1F8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715E5-8156-4FDC-A0E1-DD9D7A0E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01F0-A8B2-42AA-8AA1-84885F7E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1857-A3C5-46F7-9F16-101ACB6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669-4608-44AF-A472-2F6196D7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3B64-D432-4E3E-9188-AE2BCB73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211F-60E5-405D-B29F-7560D463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E97A-A519-44F4-8C17-A5FCA4A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5D49A-A385-4E26-9104-2E901CE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A52D-D598-4C72-B057-79AF4D10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5C33-36FE-4E3F-B092-92FB9619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A736-9CB3-43E1-8C4B-14715C76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69B01-B85D-41C6-9C21-61B75193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74A6-040F-4ACC-83AE-7376D713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D1B1-E008-4D64-BE88-5D665FD5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6AC-0592-4942-ACFA-66572D7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BE5E6-A4CA-489B-944D-CA1AF63C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B32F-957F-4C4E-ADB7-0B6EC344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8378-69EC-4B4B-BEA6-9CC0AB10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2350-3657-4966-8580-7CBC2D41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4B33-A12F-4764-BB41-2478732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1D41-551F-4757-B671-ECF8C130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EE451-9F3A-4782-AFE1-B99D30B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59D6-69D4-46C7-82D9-FF61AB88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7B8C-434A-4544-B0B0-A129BB31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97A5-2D2B-4BB3-B99C-80FF689E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A15-AD76-44F3-8348-F7B2BAA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0731-C1D2-4866-994E-CFC28F7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4076-69C4-4197-A4B6-16E4006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EF130-137C-4299-AAC6-63F2C6D1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C744-8360-429A-A67C-E583195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16FF2-152E-4DD7-B35F-593AC26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E6A7-03B1-4AA7-9F77-7942A57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73F3-CE6A-44D6-80A6-8E292032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E20B-69C9-4CEA-8DD7-20668A3C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4B0D2-FF3B-4C23-910B-BE2DF171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96005-C38A-482C-8D32-B4F1FE70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920-5C1C-4BED-A2A9-EEB66917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BE9A-9185-4DA5-A27F-2329C650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2470-F0EF-4E7F-A1B8-8775871B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F6B5B-A577-46D5-B941-ADAD18CC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8A85B-E0D1-40B7-B480-DBF72BE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FC07A-BB0F-4D68-A5AF-799A738B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79390-C5B0-408C-9EC2-1B395BC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BBAF1-9B3C-44FE-BEFD-866D17B9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74BEC-9467-4C62-AE32-7173DCA8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C2A7F-4B50-4026-9648-703506A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48AF8-EA8D-4BE7-A7B5-366B7E6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562-8D6C-4378-A076-F476C34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CE54-E75C-4EA8-9BDB-B6373935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13391-8F0C-4576-99DD-B43029BC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FC60-D8CB-4B7F-AD42-45BEA148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6E06-5889-4309-A0D6-EFE39CEF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9A2FA-8717-4E7C-B811-5BEEE81B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8C005-8DE6-485F-809C-557F5609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70E9-E5F9-4141-AF03-C3FEFAF2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4217-7D45-4ADF-9D39-42A5554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094F-3A3B-4992-BC52-278D3E3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EC4DF-8902-45A3-8CBD-BBBAE14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2F98-7205-4B4C-8997-BD82A7C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967D-081E-4D59-9430-2D1B8C88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446FA-4F08-4390-82DA-9F75EC31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2990-8693-438A-8004-A2556BD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BC86-140A-4EE0-B686-753C970D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7453-6501-4EF0-865E-FCAB5403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AEB37-0B57-4460-8DFE-8864ED59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DA570-6B3A-4E37-BA59-94D77279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28305-E8CD-4DF4-8206-2DCD564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240A5-7E7E-438F-9E2F-07FFF452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38212-959E-47AE-825D-C0237501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917-E1C5-4C01-BAE0-12A554D1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332FA-57DB-49A7-83BB-F409C86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54E6F-25CC-4B55-BB6F-96074EE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D5D9C-D05E-4C58-9B36-FF2374F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C8C5-32AF-403A-A3A1-42D1E7CF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4C5A-9E2B-463F-82D1-6251712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A136E-00E5-4669-9A89-30C4FE0E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9F29C-E6DF-404D-A3EB-4525BAA6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4E820-F306-40EE-8012-91C4777D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407EA-8860-4B19-939B-70802B8B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190FD-C21C-46F2-BAD8-EF30639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2C38-915A-4B15-A7E4-D688B828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A42E-C432-4257-8240-95377C8EE3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8746-3E53-40F6-B252-FE7372C795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F84B-A669-4731-A869-D39D2BA09B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517E-8D01-44A0-8705-0FB5E755F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48A-2683-4AB7-B5E0-9417C8487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154-5CEE-43CD-B5DF-827BA1FBE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1A3-271C-487C-A571-C461986682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8940-3651-4917-9F4B-C4318F6DD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5EC-F4A6-482A-9D52-2F7644048E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0EC-0AEA-4E2E-AF16-695C50039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D690-60EA-4C88-A20B-076335EB95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C63-51BC-469B-819E-DF7A4A57B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4582-E81B-4097-A6D0-06F1B93E0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D1E1-DE30-459F-8D32-3F7A06E8A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4905-76D6-4481-8C04-B1A29CD31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643B-180E-47F6-84CE-093906A48F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8C5-17CC-41FE-84C2-C4D6A4C74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545-F42D-418E-AB60-91214C456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9D48-C0CB-4ABC-8046-48F27535C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B70B-1987-4F6D-88FE-2FC7D3CBB9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554-27D5-4CCA-AA1C-780114E792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B81-CE8F-4F54-9E9E-92C91F30BB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1B2A-38B7-4B84-AEA5-80FA0EC46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8277-D1BF-47FA-9EB9-86C87EFE6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64FA-0095-41C6-A243-900792323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21D1-1165-4453-AD48-F33515543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15C-63AF-484D-9854-AA8DA6808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F25C-5973-4C1A-A833-42424440C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4224-3807-4525-A06D-8511ADFFD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5F6B-CEB1-4E36-86F0-E18E315888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84F-A74C-4DC8-9207-13AA3D8EE4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9C7-BAFB-473E-B54C-A03857C9C6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6FA-B126-477F-B35C-4F5E8CE246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BCB8-260A-4CF8-A4B3-8D2AD205B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5E7F-E73A-4251-BAC1-D9294C789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FD28-9E2E-46A9-858D-15B098BCA5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6098-AF34-4876-ACA0-77BCADE0A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38DC-7EB4-49FF-94CB-5D1E8DDC9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7DF1-42B0-4959-BBED-E85915895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image" Target="../media/image14.png"/><Relationship Id="rId10" Type="http://schemas.openxmlformats.org/officeDocument/2006/relationships/image" Target="../media/image19.png"/><Relationship Id="rId11" Type="http://schemas.openxmlformats.org/officeDocument/2006/relationships/image" Target="../media/image14.png"/><Relationship Id="rId12" Type="http://schemas.openxmlformats.org/officeDocument/2006/relationships/image" Target="../media/image19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5400" y="2614680"/>
            <a:ext cx="89532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4" name="Picture 1" descr=""/>
          <p:cNvPicPr/>
          <p:nvPr/>
        </p:nvPicPr>
        <p:blipFill>
          <a:blip r:embed="rId1"/>
          <a:stretch/>
        </p:blipFill>
        <p:spPr>
          <a:xfrm>
            <a:off x="114480" y="1924200"/>
            <a:ext cx="8915400" cy="33051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2"/>
          <a:stretch/>
        </p:blipFill>
        <p:spPr>
          <a:xfrm>
            <a:off x="1000080" y="2643120"/>
            <a:ext cx="714600" cy="3160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3"/>
          <a:stretch/>
        </p:blipFill>
        <p:spPr>
          <a:xfrm>
            <a:off x="2117880" y="2643120"/>
            <a:ext cx="714240" cy="3160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4"/>
          <a:stretch/>
        </p:blipFill>
        <p:spPr>
          <a:xfrm>
            <a:off x="3214800" y="2643120"/>
            <a:ext cx="714240" cy="3160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5"/>
          <a:stretch/>
        </p:blipFill>
        <p:spPr>
          <a:xfrm>
            <a:off x="1785960" y="338616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6"/>
          <a:stretch/>
        </p:blipFill>
        <p:spPr>
          <a:xfrm>
            <a:off x="2928960" y="338616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7"/>
          <a:stretch/>
        </p:blipFill>
        <p:spPr>
          <a:xfrm>
            <a:off x="357120" y="4143240"/>
            <a:ext cx="8786880" cy="316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8"/>
          <a:stretch/>
        </p:blipFill>
        <p:spPr>
          <a:xfrm>
            <a:off x="357120" y="4896000"/>
            <a:ext cx="878688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4" name="Picture 1" descr=""/>
          <p:cNvPicPr/>
          <p:nvPr/>
        </p:nvPicPr>
        <p:blipFill>
          <a:blip r:embed="rId1"/>
          <a:stretch/>
        </p:blipFill>
        <p:spPr>
          <a:xfrm>
            <a:off x="90360" y="1476360"/>
            <a:ext cx="8963280" cy="44006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2"/>
          <a:stretch/>
        </p:blipFill>
        <p:spPr>
          <a:xfrm>
            <a:off x="743040" y="40528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3"/>
          <a:stretch/>
        </p:blipFill>
        <p:spPr>
          <a:xfrm>
            <a:off x="717480" y="4432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4"/>
          <a:stretch/>
        </p:blipFill>
        <p:spPr>
          <a:xfrm>
            <a:off x="717480" y="4830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5"/>
          <a:stretch/>
        </p:blipFill>
        <p:spPr>
          <a:xfrm>
            <a:off x="717480" y="5214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6"/>
          <a:stretch/>
        </p:blipFill>
        <p:spPr>
          <a:xfrm>
            <a:off x="717480" y="55720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86240" y="981000"/>
            <a:ext cx="2171520" cy="266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666720" y="1413000"/>
            <a:ext cx="7810560" cy="507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1282680" y="17604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1270080" y="3000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1282680" y="4159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1282680" y="535320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119160" y="839880"/>
            <a:ext cx="8905680" cy="4029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2" descr=""/>
          <p:cNvPicPr/>
          <p:nvPr/>
        </p:nvPicPr>
        <p:blipFill>
          <a:blip r:embed="rId2"/>
          <a:stretch/>
        </p:blipFill>
        <p:spPr>
          <a:xfrm>
            <a:off x="539640" y="4925880"/>
            <a:ext cx="7286760" cy="1743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743040" y="798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714240" y="30132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714240" y="3743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727200" y="45165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781200" y="5268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8"/>
          <a:stretch/>
        </p:blipFill>
        <p:spPr>
          <a:xfrm>
            <a:off x="768240" y="597060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09440" y="1374840"/>
            <a:ext cx="8925120" cy="4286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781200" y="2949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755640" y="33289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755640" y="37274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755640" y="4071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755640" y="447048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704880" y="1351080"/>
            <a:ext cx="7734240" cy="4886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2"/>
          <a:stretch/>
        </p:blipFill>
        <p:spPr>
          <a:xfrm>
            <a:off x="1357200" y="3500280"/>
            <a:ext cx="1600200" cy="505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1857240" y="40496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4214880" y="3500280"/>
            <a:ext cx="1600200" cy="505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5"/>
          <a:stretch/>
        </p:blipFill>
        <p:spPr>
          <a:xfrm>
            <a:off x="4572000" y="4011480"/>
            <a:ext cx="714240" cy="316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6"/>
          <a:stretch/>
        </p:blipFill>
        <p:spPr>
          <a:xfrm>
            <a:off x="7000920" y="3489480"/>
            <a:ext cx="1600200" cy="504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7"/>
          <a:stretch/>
        </p:blipFill>
        <p:spPr>
          <a:xfrm>
            <a:off x="7358040" y="400068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8"/>
          <a:stretch/>
        </p:blipFill>
        <p:spPr>
          <a:xfrm>
            <a:off x="1357200" y="5429160"/>
            <a:ext cx="1600200" cy="505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9"/>
          <a:stretch/>
        </p:blipFill>
        <p:spPr>
          <a:xfrm>
            <a:off x="1714680" y="5940360"/>
            <a:ext cx="1071360" cy="316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10"/>
          <a:stretch/>
        </p:blipFill>
        <p:spPr>
          <a:xfrm>
            <a:off x="4143240" y="5418000"/>
            <a:ext cx="1600200" cy="505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1"/>
          <a:stretch/>
        </p:blipFill>
        <p:spPr>
          <a:xfrm>
            <a:off x="4500720" y="5929200"/>
            <a:ext cx="714240" cy="316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12"/>
          <a:stretch/>
        </p:blipFill>
        <p:spPr>
          <a:xfrm>
            <a:off x="7000920" y="5418000"/>
            <a:ext cx="1600200" cy="505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13"/>
          <a:stretch/>
        </p:blipFill>
        <p:spPr>
          <a:xfrm>
            <a:off x="7358040" y="5929200"/>
            <a:ext cx="71424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662040" y="2075040"/>
            <a:ext cx="7819920" cy="1752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" descr=""/>
          <p:cNvPicPr/>
          <p:nvPr/>
        </p:nvPicPr>
        <p:blipFill>
          <a:blip r:embed="rId2"/>
          <a:stretch/>
        </p:blipFill>
        <p:spPr>
          <a:xfrm>
            <a:off x="1042920" y="3875040"/>
            <a:ext cx="5886360" cy="10666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3"/>
          <a:stretch/>
        </p:blipFill>
        <p:spPr>
          <a:xfrm>
            <a:off x="1593720" y="3097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4"/>
          <a:stretch/>
        </p:blipFill>
        <p:spPr>
          <a:xfrm>
            <a:off x="2711520" y="3462480"/>
            <a:ext cx="717480" cy="315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5"/>
          <a:stretch/>
        </p:blipFill>
        <p:spPr>
          <a:xfrm>
            <a:off x="2765520" y="3840120"/>
            <a:ext cx="717480" cy="316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6"/>
          <a:stretch/>
        </p:blipFill>
        <p:spPr>
          <a:xfrm>
            <a:off x="2925720" y="4222800"/>
            <a:ext cx="717480" cy="315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7"/>
          <a:stretch/>
        </p:blipFill>
        <p:spPr>
          <a:xfrm>
            <a:off x="2201760" y="4587840"/>
            <a:ext cx="71748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1000080" y="1549440"/>
            <a:ext cx="7143840" cy="4400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1639800" y="1916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1639800" y="26892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4"/>
          <a:stretch/>
        </p:blipFill>
        <p:spPr>
          <a:xfrm>
            <a:off x="1639800" y="34196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5"/>
          <a:stretch/>
        </p:blipFill>
        <p:spPr>
          <a:xfrm>
            <a:off x="1627200" y="45417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6"/>
          <a:stretch/>
        </p:blipFill>
        <p:spPr>
          <a:xfrm>
            <a:off x="1631880" y="52941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Picture 1" descr=""/>
          <p:cNvPicPr/>
          <p:nvPr/>
        </p:nvPicPr>
        <p:blipFill>
          <a:blip r:embed="rId1"/>
          <a:stretch/>
        </p:blipFill>
        <p:spPr>
          <a:xfrm>
            <a:off x="585720" y="1050840"/>
            <a:ext cx="7972560" cy="4667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2" descr=""/>
          <p:cNvPicPr/>
          <p:nvPr/>
        </p:nvPicPr>
        <p:blipFill>
          <a:blip r:embed="rId2"/>
          <a:stretch/>
        </p:blipFill>
        <p:spPr>
          <a:xfrm>
            <a:off x="933480" y="5732640"/>
            <a:ext cx="5629320" cy="10094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3"/>
          <a:stretch/>
        </p:blipFill>
        <p:spPr>
          <a:xfrm>
            <a:off x="1214280" y="1727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4"/>
          <a:stretch/>
        </p:blipFill>
        <p:spPr>
          <a:xfrm>
            <a:off x="1177920" y="27018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5"/>
          <a:stretch/>
        </p:blipFill>
        <p:spPr>
          <a:xfrm>
            <a:off x="1211400" y="3957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6"/>
          <a:stretch/>
        </p:blipFill>
        <p:spPr>
          <a:xfrm>
            <a:off x="1219320" y="50418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7"/>
          <a:stretch/>
        </p:blipFill>
        <p:spPr>
          <a:xfrm>
            <a:off x="1198440" y="606744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4" name="Picture 1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6772320" cy="1781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"/>
          <p:cNvPicPr/>
          <p:nvPr/>
        </p:nvPicPr>
        <p:blipFill>
          <a:blip r:embed="rId2"/>
          <a:stretch/>
        </p:blipFill>
        <p:spPr>
          <a:xfrm>
            <a:off x="901800" y="2666880"/>
            <a:ext cx="5257800" cy="25624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3"/>
          <a:stretch/>
        </p:blipFill>
        <p:spPr>
          <a:xfrm>
            <a:off x="3564000" y="4724280"/>
            <a:ext cx="5533920" cy="20955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1782720" y="15508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1782720" y="2600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6"/>
          <a:stretch/>
        </p:blipFill>
        <p:spPr>
          <a:xfrm>
            <a:off x="1785960" y="33577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7"/>
          <a:stretch/>
        </p:blipFill>
        <p:spPr>
          <a:xfrm>
            <a:off x="1711440" y="37227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8"/>
          <a:stretch/>
        </p:blipFill>
        <p:spPr>
          <a:xfrm>
            <a:off x="1782720" y="48531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07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